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BFE-E513-44B3-A521-F41ADC77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368-9EC7-4073-88AF-C1891A75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75F-FE25-402D-B67A-16C73DD4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D79-4B26-405F-A3B0-020D6153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88E-B4C6-4A4A-885F-5056120B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52D-8B4C-4593-83DC-F67BB8AC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264-4012-475A-88AF-37405957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304-03E8-42F1-AC23-59025613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CDC-58F4-4D39-89F5-F109D661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35B-B36D-4FCC-BA70-4AB5F7BA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D48-1E91-4E0D-9F63-C153DC78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B18-233B-46C0-BD5B-AB0E3666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6412-43E2-4A38-81B5-1BBF80941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shkola-abv.ru/" TargetMode="External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s://vk.com/shkola_abv" TargetMode="External"/><Relationship Id="rId10" Type="http://schemas.openxmlformats.org/officeDocument/2006/relationships/hyperlink" Target="https://vk.com/shkola_abv" TargetMode="External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Елена\Desktop\себе\зимняя раскраска\bb31d8011d164e1b02624c3532e085d6.jpg"/>
          <p:cNvPicPr/>
          <p:nvPr/>
        </p:nvPicPr>
        <p:blipFill>
          <a:blip r:embed="rId1"/>
          <a:stretch/>
        </p:blipFill>
        <p:spPr>
          <a:xfrm>
            <a:off x="2916360" y="260280"/>
            <a:ext cx="4476600" cy="6264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 rot="16200000">
            <a:off x="-932760" y="2912760"/>
            <a:ext cx="60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Зимняя раскрас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Елена\Desktop\себе\зимняя раскраска\4217fdb80465923b3b49c502f1602f15.jpg"/>
          <p:cNvPicPr/>
          <p:nvPr/>
        </p:nvPicPr>
        <p:blipFill>
          <a:blip r:embed="rId1"/>
          <a:stretch/>
        </p:blipFill>
        <p:spPr>
          <a:xfrm>
            <a:off x="0" y="260280"/>
            <a:ext cx="9040680" cy="631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Елена\Desktop\себе\зимняя раскраска\4217fdb80465923b3b49c502f1602f15.jpg"/>
          <p:cNvPicPr/>
          <p:nvPr/>
        </p:nvPicPr>
        <p:blipFill>
          <a:blip r:embed="rId1"/>
          <a:stretch/>
        </p:blipFill>
        <p:spPr>
          <a:xfrm>
            <a:off x="250920" y="260280"/>
            <a:ext cx="4373640" cy="626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Елена\Desktop\себе\зимняя раскраска\4217fdb80465923b3b49c502f1602f15.jpg"/>
          <p:cNvPicPr/>
          <p:nvPr/>
        </p:nvPicPr>
        <p:blipFill>
          <a:blip r:embed="rId2"/>
          <a:stretch/>
        </p:blipFill>
        <p:spPr>
          <a:xfrm>
            <a:off x="4772160" y="260280"/>
            <a:ext cx="4371840" cy="626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Эмблема круг"/>
          <p:cNvPicPr/>
          <p:nvPr/>
        </p:nvPicPr>
        <p:blipFill>
          <a:blip r:embed="rId1"/>
          <a:stretch/>
        </p:blipFill>
        <p:spPr>
          <a:xfrm>
            <a:off x="3851280" y="400536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93040" y="5157000"/>
            <a:ext cx="2690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9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Елена\Desktop\себе\зимняя раскраска\bb31d8011d164e1b02624c3532e085d6.jpg"/>
          <p:cNvPicPr/>
          <p:nvPr/>
        </p:nvPicPr>
        <p:blipFill>
          <a:blip r:embed="rId11"/>
          <a:stretch/>
        </p:blipFill>
        <p:spPr>
          <a:xfrm>
            <a:off x="3419640" y="836640"/>
            <a:ext cx="1852560" cy="259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6-02-06T08:25:50Z</dcterms:created>
  <dc:creator>Елена Берюхова</dc:creator>
  <dc:description/>
  <dc:language>en-US</dc:language>
  <cp:lastModifiedBy>Берюхов</cp:lastModifiedBy>
  <dcterms:modified xsi:type="dcterms:W3CDTF">2026-02-12T13:00:23Z</dcterms:modified>
  <cp:revision>2</cp:revision>
  <dc:subject/>
  <dc:title>Слайд 1</dc:title>
</cp:coreProperties>
</file>